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13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882B-158B-4457-AFED-F825E7E17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3950-D769-47FE-80AB-F0BE74B88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8F16-05D5-45DB-A334-3C9725F72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06EB-1416-4AE4-8614-9B95EE9A4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6B07-E2A9-49BA-A9FA-BDFF4B65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D730-BF1E-4F1B-8E77-49DF58CF7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617E-7391-42A2-9163-BAA68B755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01FE-9A8B-4E7E-A919-B135AC961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823C-FBB8-4BE5-856C-0FEAA349B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5523-8A89-4D09-997B-3392BB0E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EBDA-3C8B-4831-AEC4-876D3FA9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2626-E082-4B06-8AB5-676E7924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3E86D-65B5-4934-BC63-30CA106BE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4.png"/><Relationship Id="rId8" Type="http://schemas.openxmlformats.org/officeDocument/2006/relationships/image" Target="../media/image5.jpeg"/><Relationship Id="rId9" Type="http://schemas.openxmlformats.org/officeDocument/2006/relationships/image" Target="../media/image1.png"/><Relationship Id="rId10" Type="http://schemas.openxmlformats.org/officeDocument/2006/relationships/image" Target="../media/image6.png"/><Relationship Id="rId11" Type="http://schemas.openxmlformats.org/officeDocument/2006/relationships/image" Target="../media/image1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hyperlink" Target="http://www.criticsrant.com/Images/criticsrant_com/TV_Big_Brother8/big_brother_main.jpg" TargetMode="External"/><Relationship Id="rId15" Type="http://schemas.openxmlformats.org/officeDocument/2006/relationships/image" Target="../media/image9.png"/><Relationship Id="rId16" Type="http://schemas.openxmlformats.org/officeDocument/2006/relationships/hyperlink" Target="http://www.criticsrant.com/Images/criticsrant_com/TV_Big_Brother8/big_brother_main.jpg" TargetMode="External"/><Relationship Id="rId17" Type="http://schemas.openxmlformats.org/officeDocument/2006/relationships/image" Target="../media/image10.jpeg"/><Relationship Id="rId18" Type="http://schemas.openxmlformats.org/officeDocument/2006/relationships/image" Target="../media/image11.jpeg"/><Relationship Id="rId19" Type="http://schemas.openxmlformats.org/officeDocument/2006/relationships/image" Target="../media/image12.jpeg"/><Relationship Id="rId20" Type="http://schemas.openxmlformats.org/officeDocument/2006/relationships/image" Target="../media/image13.png"/><Relationship Id="rId21" Type="http://schemas.openxmlformats.org/officeDocument/2006/relationships/image" Target="../media/image14.jpeg"/><Relationship Id="rId22" Type="http://schemas.openxmlformats.org/officeDocument/2006/relationships/image" Target="../media/image15.jpe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 rot="322800">
            <a:off x="6324480" y="3048120"/>
            <a:ext cx="1378080" cy="2028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rcRect l="2176" t="11671" r="2176" b="1504"/>
          <a:stretch/>
        </p:blipFill>
        <p:spPr>
          <a:xfrm>
            <a:off x="5105520" y="3733920"/>
            <a:ext cx="3352680" cy="2286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 rot="1357800">
            <a:off x="4647960" y="304920"/>
            <a:ext cx="2895480" cy="1981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rcRect l="0" t="0" r="0" b="51177"/>
          <a:stretch/>
        </p:blipFill>
        <p:spPr>
          <a:xfrm rot="290400">
            <a:off x="3581280" y="456840"/>
            <a:ext cx="1378080" cy="990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rcRect l="0" t="0" r="0" b="47421"/>
          <a:stretch/>
        </p:blipFill>
        <p:spPr>
          <a:xfrm>
            <a:off x="2133720" y="762120"/>
            <a:ext cx="1377720" cy="10666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 rot="20224800">
            <a:off x="1143000" y="1676520"/>
            <a:ext cx="1378080" cy="2028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 rot="799800">
            <a:off x="1295280" y="1600200"/>
            <a:ext cx="2171880" cy="2171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3581280" y="5638680"/>
            <a:ext cx="1371600" cy="990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 rot="883800">
            <a:off x="5181120" y="2514600"/>
            <a:ext cx="1378080" cy="2028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 rot="1077600">
            <a:off x="4190760" y="327636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 rot="20856600">
            <a:off x="609480" y="4038120"/>
            <a:ext cx="1378080" cy="2028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 rot="20727000">
            <a:off x="1371240" y="3733560"/>
            <a:ext cx="2590920" cy="2590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rcRect l="0" t="17254" r="0" b="0"/>
          <a:stretch/>
        </p:blipFill>
        <p:spPr>
          <a:xfrm rot="365400">
            <a:off x="2362320" y="1447920"/>
            <a:ext cx="4762440" cy="4419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14"/>
          </p:cNvPr>
          <p:cNvPicPr/>
          <p:nvPr/>
        </p:nvPicPr>
        <p:blipFill>
          <a:blip r:embed="rId15"/>
          <a:stretch/>
        </p:blipFill>
        <p:spPr>
          <a:xfrm rot="2122200">
            <a:off x="7221600" y="466560"/>
            <a:ext cx="1981080" cy="925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rId16"/>
          </p:cNvPr>
          <p:cNvPicPr/>
          <p:nvPr/>
        </p:nvPicPr>
        <p:blipFill>
          <a:blip r:embed="rId17"/>
          <a:stretch/>
        </p:blipFill>
        <p:spPr>
          <a:xfrm rot="20422200">
            <a:off x="201600" y="5489640"/>
            <a:ext cx="1170000" cy="990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8"/>
          <a:stretch/>
        </p:blipFill>
        <p:spPr>
          <a:xfrm rot="20649600">
            <a:off x="230040" y="2532240"/>
            <a:ext cx="987480" cy="1600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9"/>
          <a:stretch/>
        </p:blipFill>
        <p:spPr>
          <a:xfrm rot="1896600">
            <a:off x="7314840" y="3200400"/>
            <a:ext cx="1619280" cy="647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0"/>
          <a:stretch/>
        </p:blipFill>
        <p:spPr>
          <a:xfrm rot="400200">
            <a:off x="6019920" y="5257800"/>
            <a:ext cx="1295280" cy="1447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1"/>
          <a:stretch/>
        </p:blipFill>
        <p:spPr>
          <a:xfrm rot="20316000">
            <a:off x="252000" y="452160"/>
            <a:ext cx="2057400" cy="990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2"/>
          <a:stretch/>
        </p:blipFill>
        <p:spPr>
          <a:xfrm rot="1881000">
            <a:off x="7486200" y="5643720"/>
            <a:ext cx="1428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3"/>
          <a:srcRect l="0" t="0" r="0" b="51177"/>
          <a:stretch/>
        </p:blipFill>
        <p:spPr>
          <a:xfrm rot="1044600">
            <a:off x="7765560" y="2285640"/>
            <a:ext cx="1378080" cy="990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4"/>
          <a:srcRect l="0" t="0" r="0" b="51177"/>
          <a:stretch/>
        </p:blipFill>
        <p:spPr>
          <a:xfrm rot="1608600">
            <a:off x="8000640" y="4800600"/>
            <a:ext cx="1378080" cy="990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5"/>
          <a:srcRect l="0" t="0" r="0" b="69956"/>
          <a:stretch/>
        </p:blipFill>
        <p:spPr>
          <a:xfrm rot="20257200">
            <a:off x="0" y="0"/>
            <a:ext cx="1378080" cy="6094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6"/>
          <a:srcRect l="0" t="0" r="0" b="58689"/>
          <a:stretch/>
        </p:blipFill>
        <p:spPr>
          <a:xfrm rot="21237600">
            <a:off x="-9360" y="1752480"/>
            <a:ext cx="137772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7T23:56:33Z</dcterms:created>
  <dc:creator>Craig Thornburg</dc:creator>
  <dc:description/>
  <dc:language>en-US</dc:language>
  <cp:lastModifiedBy>Gateway_User</cp:lastModifiedBy>
  <dcterms:modified xsi:type="dcterms:W3CDTF">2008-04-20T00:27:59Z</dcterms:modified>
  <cp:revision>10</cp:revision>
  <dc:subject/>
  <dc:title>Slide 1</dc:title>
</cp:coreProperties>
</file>